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371D-481D-4202-A7CB-1B2FAF47C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C60B-DC5B-42AC-B8A2-D0D38F351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AD04-4980-45D5-8FBB-2B6CFEC28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C61E-3296-4B66-9857-37C269979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D3368-0C5D-41A6-8D93-76F007B0C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901C6-D486-4447-8046-4525E603D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9F4DA-9ED9-4B24-BB75-91BC8A489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85A36-06F3-4232-9DE4-7A60E9D39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91DA3-8633-4CA7-88CD-83516B4FD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4C0AE-79CB-439B-B79D-CF8DDD71C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6C30A-D833-4BA5-8CCD-A11C98971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DAF0-2AE4-4A3B-9BA0-67E27076F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0D9BB-B10E-486A-B6D7-BA2270B1D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96D64-ABAE-487D-B41C-44E70DFDB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FEE93-3232-4D65-A060-9F8B558BD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1B797-416F-4DB0-9AF3-48F5F6451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249E5-CCD7-4776-A926-05A0A572F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156E-530D-4849-B68E-FE90E19B1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9751-A1F9-4239-9A48-6CF677E97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1345-D661-4DC7-BFB4-88815ABCA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61A7-246C-496C-84EB-929583859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74C7-3073-47CA-B1ED-922D077BA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0123-FD61-4960-BA5C-E310AFF81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2B5D-AB5D-4F49-A0C5-B85E870BB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AF7C2-A438-4E97-83FD-475DE9229A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FEDF5-18EF-4ECC-8867-FC17612605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Tug of War</a:t>
            </a:r>
            <a:br>
              <a:rPr sz="4100"/>
            </a:br>
            <a:r>
              <a:rPr b="0" i="1" lang="en-US" sz="1600" spc="-1" strike="noStrike">
                <a:solidFill>
                  <a:srgbClr val="336666"/>
                </a:solidFill>
                <a:latin typeface="Arial Black"/>
              </a:rPr>
              <a:t>A real-time strategy with first person action.</a:t>
            </a:r>
            <a:endParaRPr b="0" i="1" lang="en-US" sz="16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By: Earl Lamson III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Plan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esign each module after researching it’s library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peculative Ord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orld Module – ODE, mod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ame Module – Lua, mod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aphics Module – Direct3D, vie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put Module – DirectInput, controll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und Module – FMOD, vie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Plan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xecution Environm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ndows X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evelopment Environm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isual Studio .NET 200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++, Lu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eploym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ngle file executable install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onclusion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mphasis on harvesting library functionalit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xercise in integrating middlewar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piral model to encourage change throughout the project’s lif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rack my project progress at http://student.uaa.alaska.edu/asiel1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Game Description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mbination of a real-time strategy (RTS) and a first person shooter (FPS)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layed in a 3D world on a rectangular playfield populated with trees and rock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ull a large heavy object into your goal area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wo play mod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 Mode – RTS sty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vatar Mode – FPS sty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Game Description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ing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ctories – produce buildings, units, and upgra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veyors – transport resources to facto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urret – attack enem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612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ni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atherers – Normal puller, fast firing r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ldiers – Offensive weapons, weak puller, fast firing r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llers –powerful puller, slow firing r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Game Description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een – for building defensive upgrades and buildin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ellow – for building puller upgrades and pu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d – for building offensive upgrades and soldi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8612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pgrad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ens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er max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er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ll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ller force incr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er projectile lifesp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ffens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d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d firing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User Interfac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429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mmand Mod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he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n and zo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lect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ive ord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ce new buildin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ign upgra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dit scrip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191120" y="2133720"/>
          <a:ext cx="4419360" cy="333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2133720"/>
                    <a:ext cx="4419360" cy="33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User Interfac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vatar Mod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rst pers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aw and pit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ve and jum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oo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ect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9880" y="2068560"/>
          <a:ext cx="4648320" cy="351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068560"/>
                    <a:ext cx="4648320" cy="35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I/O Requirement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raphic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heres, boxes, cylinders, capsules, et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tex lighting and colo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oun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reo samples played for game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eyboa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 defined contr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Plan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piral Development Mod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ibrari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rect3D – Graph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rectInput – Mouse, keyboa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MOD – Sound, mus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DE – Physics (RBD, colde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ua - Scrip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Plan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VC Architectur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133720" y="2666880"/>
          <a:ext cx="4711680" cy="33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2666880"/>
                    <a:ext cx="4711680" cy="33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0" y="22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6T03:43:51Z</dcterms:created>
  <dc:creator>Earl Lamson III</dc:creator>
  <dc:description/>
  <dc:language>en-US</dc:language>
  <cp:lastModifiedBy>Earl Lamson III</cp:lastModifiedBy>
  <dcterms:modified xsi:type="dcterms:W3CDTF">2006-02-16T09:36:51Z</dcterms:modified>
  <cp:revision>3</cp:revision>
  <dc:subject/>
  <dc:title>Tug of War</dc:title>
</cp:coreProperties>
</file>